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9BA0-CE37-4865-AD29-8C19E7E5A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72B4-1CF5-46F9-9B71-37A0954E6AE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BCDD-FB12-4EF8-B02E-6042301166F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A3C4-E2EF-4E63-BC01-6763D45B70E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F6F1-00E0-4140-97D6-2F4B37BE091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0F3C-5817-4A96-92FD-C0E664DC24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2A4C-8D89-4023-BD54-444A2FA23D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5AD8-C4C0-4775-89F9-6FFBDF3CE2D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EDB3-A1DB-4712-8E22-91276185DAA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D4B0-7F85-42E4-85CB-BBAEB8BA9B2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534D-1A4F-4A16-A7C6-9BB78562BE0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66F1-FA64-4CB1-BDBF-ABBBDFCC27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9F46-AC2D-4358-A454-9719383A8A8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07F6-AE35-4CCF-A968-59902AC2756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75C4-402B-4EF3-B4DC-861C0A7F638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1F56-AC01-4FA1-968F-FD2A86B54DA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089A-9462-4B20-B2AE-D5861D5B318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BCF7-2BDD-48E3-B143-6262A01C796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6F81-02A3-4595-B44F-8663574709C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4257-D946-4F49-9DD8-DE95ECC7D35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71D6-596F-48BE-BC8B-1E4ADAC72DA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3064-1ED4-40F5-9037-78ED73CC3E1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5EA6-C01E-439A-8A7F-9444FEEC507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4363-8D2C-47FE-A5F4-C5A17D70B4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58B6-6069-4D27-B217-3CD53B47170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98E4-55C6-4F08-A0E9-633ADCA96F5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5034-A393-4048-9377-339186EE2A2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587E-492E-464A-BB76-205B8B76220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F041-1219-45A1-8502-ABF9989F0C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325A-3D03-41AA-99F4-4FAA734E0E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1C70-98D9-469F-B735-1B8A84A262B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EC52-1A4D-496D-A77B-FBD74B0B47C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2421-1598-458A-9057-66222B18507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97F1-B4CD-40AD-ACCD-46484175E53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B215-9FE2-4609-B731-ADFAAB4663C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6780-7533-41FD-AE8B-53BE3EE439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A2D5-3029-4860-BBE2-0736836E9E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96EC-FB36-4049-A03A-32CE0DC62D0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87B6-D0BE-4552-97C0-4D9A462DEB6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39AB-FCC8-4A25-B3C3-D452F78921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B884-8A0C-4390-96C2-CB6CF03C52D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9D4E-1FD2-4319-B722-300A0D09EC9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87E9-075C-4521-AAED-0149A662634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AEE8-8C1F-4F08-8622-92C7008F74A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321C-1CA9-40EE-9DB2-1427D79DE39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5244-E5F3-412E-AE53-A953824A243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E089-5707-4165-830A-5BFA5C64C9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831C-1519-444D-AC89-DC4405D3CCC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42FA-55DF-4568-84CA-D5E56ECF651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1D4C-D177-461E-A500-1B59983D3FE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D0AB-F97D-4310-80AC-E66FE44C181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0D86-4951-4BAD-8EF6-57A0115A78E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1FBC-02D2-42EC-87F1-97FC828846D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1E66-2C04-4D9F-8DD0-2AE06289EA1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F2E1-24C9-445B-A23A-BA4630DB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EB9-7431-410A-AB0C-AD8FE871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F2E-3214-41B9-A3A7-3D73BCD7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B48-2F12-4463-ADF8-E781C954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7A4-3030-4A28-B091-8EE3AAF5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E55-47CC-4829-B7BA-A365A1F6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F61A-58B6-4398-997C-66325B58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FDE3-70A3-45BE-9123-AC9D1F2A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D43-F1F9-4258-890C-20FF20C9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49D-DD06-4FC3-BD02-1AE32776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664-2117-47EB-9E70-B0F71FB1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246-7878-4A39-8BD3-9C3A91B5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A15B-410A-4EAB-925B-ECD6E86752F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1-09-29T12:20:19Z</dcterms:modified>
  <cp:revision>117</cp:revision>
  <dc:subject/>
  <dc:title>Aims and Objectives</dc:title>
</cp:coreProperties>
</file>